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C242-91E2-4D9B-8363-CEEC15C371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913C-366A-424D-9AA8-02703D59BA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29C8-2B5B-4571-A12D-16A2F3C21A1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B27D-DBFC-429E-A989-7EBD0AD1D6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0937-6D2E-4065-BC00-B70FE0E4FB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B9F9-4A9A-47D6-BA34-558F8A4610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A650-4D99-4E2A-B23E-CB2BBB5FE3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2AE-D53B-46E2-8F43-0E44D8CF3A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168B-A003-468F-90EB-4109867541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47CC-6F10-4167-832F-24911C6C0D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C265-1721-4D57-BF40-CD53582AB8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1493-89AC-4EA2-A6DC-4F7599ADD58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69BE-15E6-4DEB-BD2D-54887BDEEBC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59B0-E28F-409B-823B-DE6E22EA5C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EF46-67AE-439B-949C-232B6BD85A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365-8685-49FD-AC99-972F9E0DD6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8CF-CDD6-48EF-BD9A-3B9E4557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5D7-184A-43AD-AC3E-5724C5F2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592-20DA-447A-A0B6-99BA8920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D69-B47E-49CA-AFB8-23125B03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4DE1-7B5B-4CF2-B865-81C664D1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A396-4FB2-46DA-BBA3-B51A6525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6958-AE38-4CB3-BE78-E3AF5A44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91CE-9546-4D83-9609-77033B5C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9F88-BD13-4323-BD4B-3FC6785C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90EA-D1B2-45DF-9237-3B76512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4B05-F12F-4497-9F20-8634394F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584-AFA0-4E62-AEC8-4DEC9BE1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EEC4-60C0-44EB-9854-17469266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A921-EBFA-41A5-A3FE-FE214653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319B-FA73-45FA-9C6B-B40A808E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13F1-C9B5-43B6-BE57-C41066A9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EB91-5F6E-4157-BE76-8744008C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648-1066-4173-9E3B-C20D004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FBA-0537-4931-BB1C-0B01B0E2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62D-93ED-45C8-B05D-6845F980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40A-4EC4-420D-B183-6A3C40A2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046-7F19-4BA8-9E8A-0CE33CD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CA7-5793-442C-AB48-D8C1A9D6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B5A-DFB3-414D-8AD3-FA503AE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0336-99D5-4562-9440-E35B936CFCB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B43F-4490-4D4A-A13B-2ADE85D00D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82560" y="493560"/>
            <a:ext cx="8217000" cy="2779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357440" y="3357360"/>
            <a:ext cx="4500360" cy="1785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кишина  Ксения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6 «В» класса МОУ СОШ № 32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юндик  В. П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95011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А.Н.КОЛМОГОРОВ(1903-1987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500040" y="1785960"/>
            <a:ext cx="8286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, академик АН СССР (c29.01.1939) и Академии педагогических наук СССР (1966). Герой Социалистического Труда (1963). Окончил Московский университет (1925), с 1931 профессор там же. Почётный член Московского математического общества (1953), в 1964—66 и 1974-85 его президент, редактор журнала «Успехи математических наук» (1946-54 и с 1983), редактор математического отдела 1-го издания Большой советской энциклопедии и член Главной редакции 2-го издания Большой советской энциклопедии и 3-го издания Малой советской энциклопед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520" y="428760"/>
            <a:ext cx="79009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М.В.КЕЛДЫШ (1911-197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85760" y="1642680"/>
            <a:ext cx="4900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лдыш  Мстислав Всеволодович (1911—78) — советский учёный в области математики и механики, академик АН СССР (1946; член-корреспондент 1943), с 1953 член Президиума, в 1960—61 вице-президент, в 1961—74 президент, в 1974—78 чл. Президиума АН СССР. Трижды Герой Социалистического Труда (1956, 1961, 1971)... Окончил МГУ (1931), затем работал в ЦАГИ, МГУ (профессор с 1937), Математик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342900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bf5f9"/>
                </a:solidFill>
                <a:latin typeface="Calibri"/>
              </a:rPr>
              <a:t>Жуковский Н.Е.</a:t>
            </a:r>
            <a:endParaRPr b="0" lang="en-US" sz="2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Жуковский заложил основы Военно-воздушной академии, получившей впоследствии его имя, а также Центральный аэрогидродинамический институт. Это научное учреждение долгие годы работало под руководством одного из ближайших учеников и сотрудников Н.Е. Жуковского — С.А. Чаплыгина (1869 —1942) и объединили многих выдающихся исследователей . Теоретический отдел разрабатывал многие важные проблемы, в том числе и для военной авиации. Многие из этих разработок пригодились и были широко использованы для создания новых систем истребителей, штурмовиков и бомбардировщиков, обладавших повышенной маневренностью, скоростью, надежность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2571840" cy="335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3929040" cy="45385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5"/>
          <p:cNvSpPr/>
          <p:nvPr/>
        </p:nvSpPr>
        <p:spPr>
          <a:xfrm>
            <a:off x="4572000" y="1571760"/>
            <a:ext cx="428616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ЕСТВО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знаем, что ныне лежит на ве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что совершается ны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 мужества пробил на наших час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ужество нас не поки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трашно под пулями мертвыми леч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горько остаться без кро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ы сохраним тебя, русская реч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ое русское сло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бодным и чистым тебя пронесе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нукам дадим, и от плена спас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к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71800" y="642960"/>
            <a:ext cx="82152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"</a:t>
            </a:r>
            <a:r>
              <a:rPr b="0" lang="ru-RU" sz="5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Подвиг народа"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3795480" cy="44290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9"/>
          <p:cNvSpPr/>
          <p:nvPr/>
        </p:nvSpPr>
        <p:spPr>
          <a:xfrm>
            <a:off x="4643280" y="2000160"/>
            <a:ext cx="40006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дцать второго июня 1941 года на нашу страну обрушилась самая тяжёлая и кровопролитная война в истории России. Великая Отечественная война принесла огромные страдания, тяготы нашему народу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704520"/>
            <a:ext cx="64008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ЗАКЛЮЧЕНИЕ</a:t>
            </a:r>
            <a:r>
              <a:rPr b="0" lang="ru-RU" sz="4800" spc="-1" strike="noStrike">
                <a:solidFill>
                  <a:srgbClr val="dbf5f9"/>
                </a:solidFill>
                <a:latin typeface="Calibri"/>
              </a:rPr>
              <a:t>: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 времени Победы  прошло более 65  лет .  Вторая Мировая война оказалось прежде всего войной танков, соревнованием моторов , огня и брони , и от того , чья конструкторская  мысль оказалась точнее  и  глубже  , зависел исход многих сражений . Советские войны , в нечеловеческих условиях , наблюдался  прогресс  в теоретической  математики . До сих пор нет сводного труда , который бы показал, как много математики дали  фронту  для  победы, как их исследования помогали совершенствовать оружие , которое использовали воины в боя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7286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85560" y="235692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лад математиков в победу в Великой Отечественной войн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61437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6989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14240" y="1999800"/>
            <a:ext cx="7715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4240" indent="-446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0316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714240" indent="-446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80316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литератур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скрывающую       этот  вопрос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714240" indent="-446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80316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снить  , кто из ученых-математиков принимал участие  в боевых действиях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714240" indent="-446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80316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снить , какие задачи приходилось решать  математикам.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069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АКТУАЛЬНОСТЬ :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142880" y="2142720"/>
            <a:ext cx="47149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 лет Победы в ВО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88920" indent="-20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ь человеческая несовершенна , многие события забываются . Вклад математики и математиков в победу над фашизмом велик . Мы должны помнить реальных люде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342900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2"/>
          <p:cNvSpPr/>
          <p:nvPr/>
        </p:nvSpPr>
        <p:spPr>
          <a:xfrm>
            <a:off x="428760" y="1071720"/>
            <a:ext cx="8429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шло 65 лет со дня победы советского народа в Великой Отечественной войне. Неисчислимые жертвы понесла страна во имя независимости, свободы и общественных идеалов; миллионы погибших и раненых, страдания от голода, тысячи разрушенных городов и деревень, сотни тысяч угнанных на фашистскую каторг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смотря ни на что советский народ выстоял и побед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первых дней войны математики принимали участие в защите страны: призывались в армию, записывались в народное ополчение, шли на фронт добровольцами. В самые тяжелые для страны дни они показали себя верными сыновьями Родины, способными на самопожертвование и готовыми отдать жизнь во имя свободы Отчизны. И действительно, многие из тех, кто ушел па фронт, не возвратились и не приступили к своей любимой работе. Среди погибших было много талантливых математиков, подававших большие надежды, способных внести большой вклад в прогресс наших знани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ы должны преклоняться перед выдержкой, самоотверженностью и верностью Отчизне» которую проявляли математики-во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154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34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А. ЛЯПУНОВ (1911-1973)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86120" y="1643040"/>
            <a:ext cx="4786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храбро воевал и внес много  ценного в правила стрельбы . Здесь он использовал свой опыт математика . Его предположения увеличили эффективность стрельбы . За работу в области кибернетике , теории множеств и программирования А.А. Ляпунов уже после войны (с 1964 г.) был избран член - корреспондентом  АН  СССР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00040" y="1797120"/>
            <a:ext cx="3071880" cy="4703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3296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ЮВ. ЛИННИК (1915-1972)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714840" cy="47415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4214880" y="1643040"/>
            <a:ext cx="414324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43 году молодому доктору физико-математических наук было присвоено звание профессора. В 1947 году за весьма оригинальные работы в области теории чисел Линнику присваивается почетное звание лауреата Государственной премии. В 1953 году Линник избирается членом-корреспондентом Академии наук ССС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901512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А.Н.КРЫЛОВ (1863-1945)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3000240" cy="45003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3786120" y="1285920"/>
            <a:ext cx="48578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ксей Николаевич Крылов — русский и советский кораблестроитель, специалист в области механики, математик, академик Петербургской АН /АН СССР/ (1916; член-корреспондент 1914), генерал для особых поручений при морском министре Российской империи (1911), лауреат Сталинской премии (1941), Герой Социалистического Труда (1943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840" y="856800"/>
            <a:ext cx="885816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А.Н. КОЛМОГОРОВ (1903-1987)</a:t>
            </a:r>
            <a:br>
              <a:rPr sz="3600"/>
            </a:b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3857400" cy="4786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00360" y="1714320"/>
            <a:ext cx="378612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дрей  Николаевич Колмогоров - величайший русский математик ХХ столетия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5:03:45Z</dcterms:created>
  <dc:creator>Admin</dc:creator>
  <dc:description/>
  <dc:language>en-US</dc:language>
  <cp:lastModifiedBy>Dimitri</cp:lastModifiedBy>
  <dcterms:modified xsi:type="dcterms:W3CDTF">2011-01-26T20:34:06Z</dcterms:modified>
  <cp:revision>66</cp:revision>
  <dc:subject/>
  <dc:title>Математика в годы Великой Отечественной войны.</dc:title>
</cp:coreProperties>
</file>